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D6B-B77C-4279-8007-CC780EBA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F33-D7AB-4C6C-B224-CD66DB85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7CA-9644-4901-B28B-F38CC77C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198-89F2-43AB-9B0B-F5C54B48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169-C1A2-4469-BCA1-CD3AD04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64C-A286-4EE9-8007-0053954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A84-04E8-4A48-BF71-FA0C04EE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DB8-F7E9-4E88-979F-5545CE9A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1BC-8C94-4A4A-87AF-A715125E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EA0-7962-4390-AB19-66BD036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B34-E4C8-446F-BFEB-9AF7E2F3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9F2-6793-46AD-953A-27166ED6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F286-5282-49FE-A290-2794955F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dmanarchives.com/British%2520Columbia/images/Shack%2520-%2520vertical%25208x10%2520300%2520dpi.jpg&amp;imgrefurl=http://forums.worldofwarcraft.com/thread.html%3Bjsessionid%3D208DFDEC945B3927C0DD7B72CF817277%3FtopicId%3D712408431%26sid%3D1%26pageNo%3D7&amp;h=800&amp;w=621&amp;sz=339&amp;hl=en&amp;start=3&amp;um=1&amp;tbnid=B9mTpulqDWFxdM:&amp;tbnh=143&amp;tbnw=111&amp;prev=/images%3Fq%3Dcrap%2Bshack%26um%3D1%26hl%3Den%26rlz%3D1T4ADBS_enUS257US259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gencyspy.files.wordpress.com/2008/01/straight-jacket.jpg&amp;imgrefurl=http://agencyspy.wordpress.com/2008/01/28/ad-spend-going-from-tv-to-movies-is-that-really-the-best-plan/&amp;h=323&amp;w=427&amp;sz=24&amp;hl=en&amp;start=11&amp;um=1&amp;tbnid=DhSEvNULIV9__M:&amp;tbnh=95&amp;tbnw=126&amp;prev=/images%3Fq%3Dstraight%2Bjacket%26um%3D1%26hl%3Den%26rlz%3D1T4ADBS_enUS257US259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tiki.oneworld.net/food/food_title.jpg&amp;imgrefurl=http://tiki.oneworld.net/food/food3.html&amp;h=307&amp;w=400&amp;sz=17&amp;hl=en&amp;start=1&amp;um=1&amp;tbnid=-C3T2td9e7CGOM:&amp;tbnh=95&amp;tbnw=124&amp;prev=/images%3Fq%3Dfood%26um%3D1%26hl%3Den%26rlz%3D1T4ADBS_enUS257US259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6600cc"/>
                </a:solidFill>
                <a:uFillTx/>
                <a:latin typeface="Jokerman"/>
              </a:rPr>
              <a:t>Alex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gency FB"/>
              </a:rPr>
              <a:t>The Most Awesome Kid 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My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920600" cy="1216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5880" y="4572000"/>
            <a:ext cx="1447920" cy="94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9880" y="3505320"/>
            <a:ext cx="838440" cy="9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858000" y="2286000"/>
            <a:ext cx="569880" cy="60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696080" y="3733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33520" y="3352680"/>
            <a:ext cx="1838160" cy="135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943600" y="3429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m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197640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84320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09680" y="236232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66880" y="4805280"/>
            <a:ext cx="2438640" cy="20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410080" y="1143000"/>
            <a:ext cx="335304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18240" y="41904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heretrobab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my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75760" y="609516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riedmanarchive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okerman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362320"/>
            <a:ext cx="1200240" cy="1666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4037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spy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362320"/>
            <a:ext cx="2019240" cy="1514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480360" y="38854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ki.oneworld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664080" y="2629080"/>
            <a:ext cx="181584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09480" y="4648320"/>
            <a:ext cx="15908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3:04Z</dcterms:created>
  <dc:creator>CGB</dc:creator>
  <dc:description/>
  <dc:language>en-US</dc:language>
  <cp:lastModifiedBy>CGB</cp:lastModifiedBy>
  <dcterms:modified xsi:type="dcterms:W3CDTF">2008-06-11T13:45:22Z</dcterms:modified>
  <cp:revision>7</cp:revision>
  <dc:subject/>
  <dc:title>Alex Lesar</dc:title>
</cp:coreProperties>
</file>